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C46-6EC0-42C4-B6E8-1D60EC8D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4C6-86C7-46BC-8153-6D05EE82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1EE-F52B-4363-8805-3BA3708A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65B-A760-4115-B178-23253406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9CF-A4C5-4BAB-B758-074BEC0B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2C12-BB8F-4A96-A08E-AB123906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40F4-7EB4-45E7-9DC1-5C5DC228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1CB5-085A-4039-A5D3-04092D4D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0A9-B62C-453C-80C4-0F28E304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6A1B-09C5-4EDB-ABE3-81C9402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F95-71F0-4BDE-9CBD-4648F3A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555-0119-499E-A41A-648F6B36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AB7D-23F4-4785-A8E8-1E876B9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0D36-A789-4F46-B893-97E7CB3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1E6F-6CC6-42F6-8629-1D988483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5E5-30B0-46B0-87D5-5F497920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5373-FF7E-4AC5-B6CB-F9A37333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A66-5070-4646-BEBA-B0F2D52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E14-F92E-454B-879A-567346D0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83F-7862-44DA-B0CC-87A12639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154-069A-4955-A778-18D4EAB1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406-7E45-44B5-BB3D-0028911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B79-BDCA-4FE7-A38C-28071ABB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034-B0C2-4A7C-AC5C-77FC7D2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0EF-EFB4-4450-BA8B-075BD58007E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7C57-0E28-445A-8329-808CFB5A03D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模式的简单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蔺洪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各种水凝物碰并的结果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963960" cy="403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过程控制参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粒子尺度分布函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680000" cy="313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3573360"/>
          <a:ext cx="3743280" cy="8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573360"/>
                    <a:ext cx="37432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运行流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700280"/>
            <a:ext cx="1584360" cy="647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NCEP/NCA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700280"/>
            <a:ext cx="1439640" cy="649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1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565360"/>
            <a:ext cx="86544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fd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357720"/>
            <a:ext cx="1872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id fiel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per ai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07664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122400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71640" y="4076640"/>
            <a:ext cx="122400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653000"/>
            <a:ext cx="28083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AMS/ISA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Isentropic ANalysi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4724280"/>
            <a:ext cx="331308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Gridded analysis field for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Initial and boundary condi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4DD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4360" y="422064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429000"/>
            <a:ext cx="1944720" cy="64764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674"/>
                </a:solidFill>
                <a:latin typeface="Arial"/>
              </a:rPr>
              <a:t>RAM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263700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997360"/>
            <a:ext cx="1008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ev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CAR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227640" y="2636640"/>
            <a:ext cx="72072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3280" y="2205000"/>
            <a:ext cx="720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V5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8720" y="2636640"/>
            <a:ext cx="648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D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96360" y="2707920"/>
            <a:ext cx="100620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205000"/>
            <a:ext cx="57636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35280" y="2637000"/>
            <a:ext cx="136836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64764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19640" y="2708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11280" y="476280"/>
          <a:ext cx="77770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6280"/>
                    <a:ext cx="7777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3141720"/>
          <a:ext cx="75610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141720"/>
                    <a:ext cx="7561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4221000"/>
          <a:ext cx="662436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221000"/>
                    <a:ext cx="662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4360" y="5445000"/>
          <a:ext cx="4392360" cy="114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45000"/>
                    <a:ext cx="4392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88508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格点结构：标准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错格点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rakawa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，所有的热力学变量和湿度变量定义在网格的中心，而速度分量则交错定义在        ，     ，     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067280" y="1916280"/>
          <a:ext cx="542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916280"/>
                    <a:ext cx="542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2360" y="1916280"/>
          <a:ext cx="6048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916280"/>
                    <a:ext cx="604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24360" y="1916280"/>
          <a:ext cx="592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592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3240360" cy="236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8508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76500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采用旋转极射赤面投影，可以使投影的中心旋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靠近模拟区域的中心，这样可以使最感兴趣区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变形达到最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地形追随坐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92360" cy="29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76360" y="3716280"/>
          <a:ext cx="20890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716280"/>
                    <a:ext cx="20890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95672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46800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没有嵌套网格数目的限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自由指定时间空间嵌套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分别进行水平和垂直嵌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嵌套移动网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双向嵌套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               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85264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40000" y="292428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averag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256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interpolat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侧边界条件：对于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交错网格，最常用的边条件是辐射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而对于相速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不同处理，辐射侧边界又可以分为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Orlanski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和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Klemp and Lilly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其他的侧边界方案还包括：零梯度，常入流或出流，周期性和海绵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边界条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刚壁条件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=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重力波辐射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yleigh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摩擦吸收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00360" y="1413000"/>
          <a:ext cx="23032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413000"/>
                    <a:ext cx="230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种辐射参数化方案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Mahrer-Pielke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简单的一种方案，忽略了大气中的液相和冰相，只考虑水汽的作用，所以当云对辐射的衰减较重要时，不能采用这种方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hen-Cot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考虑了大气中的凝结过程，但是不区分凝结物是云水、雨水还是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Harring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复杂的一种方案，考虑了水凝物的各种形式（云水，雨水，冰晶，雪，聚合物，霰，雹），甚至考虑了冰晶不同特性对辐射的影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发展历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6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RAMS =Regional Atmospheric Modeling Syste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otton                                Pielke                               Tremback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loud/mesoscale                 the sea breeze             hydrostatic version  of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model                                model                            the cloud mod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334400">
            <a:off x="1547280" y="501336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58136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68200">
            <a:off x="5363640" y="4868640"/>
            <a:ext cx="1911600" cy="288720"/>
          </a:xfrm>
          <a:prstGeom prst="leftArrow">
            <a:avLst>
              <a:gd name="adj1" fmla="val 50000"/>
              <a:gd name="adj2" fmla="val 1655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620640"/>
          <a:ext cx="8540640" cy="5689800"/>
        </p:xfrm>
        <a:graphic>
          <a:graphicData uri="http://schemas.openxmlformats.org/drawingml/2006/table">
            <a:tbl>
              <a:tblPr/>
              <a:tblGrid>
                <a:gridCol w="3168720"/>
                <a:gridCol w="537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维非静力平衡云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tton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二维海风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ielke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中后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维非静力平衡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Cotton, Tripoli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静力平衡版本的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Tremback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模式产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源代码的重新编写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新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一版产生 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0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并行运算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VM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, Version2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采用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MPI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处理的并行计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1/4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6.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二、技术描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052640"/>
          <a:ext cx="8540640" cy="5373720"/>
        </p:xfrm>
        <a:graphic>
          <a:graphicData uri="http://schemas.openxmlformats.org/drawingml/2006/table">
            <a:tbl>
              <a:tblPr/>
              <a:tblGrid>
                <a:gridCol w="1800000"/>
                <a:gridCol w="67406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基本方程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dc59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三维、非静力、完全可压方程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坐标系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平：旋转极射赤面投影  垂直：地形追随坐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格点结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标准的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交错网格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rakaw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网格嵌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向守恒嵌套，可以指定空间和时间嵌套比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间差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混合差分方案（速度项采用蛙跃格式，其他项采用前向差分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边界条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侧边界、上边界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动能参数化方案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Deardorff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amad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速度项采用二阶蛙跃格式，其他项采用二阶前向差分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uo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   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ain-Fritsch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微物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水、雨水和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冰相物质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辐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种长波和短波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地表参数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土壤温度、湿度和植被进行预报，而对雪进行参数化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LEAF)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数据同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数据同化技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微物理方案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所考虑的微物理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滴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冰晶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水汽的扩散增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蒸发、升华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热扩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、融化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沉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碰并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生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方案中水凝物的种类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616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冰晶的特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中冰晶和雪有五种不同的特性（形状）：柱状，针状、枝状、六角盘状以及玫瑰花状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于不同特性的冰晶，其质量和末速度对直径的依赖关系也各不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冰晶的核化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核化和凝结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接触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均质核化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40</a:t>
            </a:r>
            <a:r>
              <a:rPr b="0" lang="zh-CN" sz="24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6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545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碰并过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27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35:02Z</dcterms:created>
  <dc:creator>mandrake</dc:creator>
  <dc:description/>
  <dc:language>en-US</dc:language>
  <cp:lastModifiedBy>mandrake</cp:lastModifiedBy>
  <dcterms:modified xsi:type="dcterms:W3CDTF">2007-11-28T03:46:12Z</dcterms:modified>
  <cp:revision>13</cp:revision>
  <dc:subject/>
  <dc:title>RAMS模式的简单介绍</dc:title>
</cp:coreProperties>
</file>